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Chapter" id="0">
      <p:sldLst>
        <p:sld r:id="rId4"/>
        <p:sld r:id="rId7"/>
        <p:sld r:id="rId10"/>
        <p:sld r:id="rId5"/>
        <p:sld r:id="rId3"/>
        <p:sld r:id="rId15"/>
        <p:sld r:id="rId13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  <p:custShow name="ELI Sect 2" id="2">
      <p:sldLst>
        <p:sld r:id="rId3"/>
      </p:sldLst>
    </p:custShow>
    <p:custShow name="ELI Sect 4" id="3">
      <p:sldLst>
        <p:sld r:id="rId15"/>
        <p:sld r:id="rId13"/>
      </p:sldLst>
    </p:custShow>
    <p:custShow name="Bellringers" id="4">
      <p:sldLst>
        <p:sld r:id="rId4"/>
      </p:sldLst>
    </p:custShow>
    <p:custShow name="Chapter menu" id="5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40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s of the Ea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28400" y="1498320"/>
            <a:ext cx="8258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ng Latitude and Long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Cir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ing Di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" y="6858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ing Locations on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reat Circl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reat circle is any circle that divides the globe into halves, or marks the circumference of the glo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circle formed by two meridians of longitude that are directly across the globe from each other is a great cir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quator is the only line of latitude that is a great circ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ute along a great circle is the shortest distance between two points on a sphere. As a result, great circles are commonly used in navigation, such as for air and sea rou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reat Circl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414360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what a great circle 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nding Dire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o find direction on Earth is to use a magnetic compa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agnetic compass can indicate direction because Earth has magnetic properties as if a powerful bar-shaped magnet were buried at Earth’s center at an angle to Earth’s axis of ro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eas on Earth’s surface just above where the poles of the imaginary magnet would be are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eomagnetic po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eomagnetic poles and the geographic poles are located in different pl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nding Directio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gnetic Decl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ngle between the direction of the geographic pole and the direction in which the compass needle points is calle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magnetic declinat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the Northern Hemisphere, magnetic declination is measured in degrees east or west of the geographic North Po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cause Earth’s magnetic field is constantly changing, the magnetic declinations of locations around the globe also change constant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y using magnetic declination, a person can use a compass to determine geographic north for any place on Earth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nding Directio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magnetic declination of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6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0" descr=""/>
          <p:cNvPicPr/>
          <p:nvPr/>
        </p:nvPicPr>
        <p:blipFill>
          <a:blip r:embed="rId1"/>
          <a:stretch/>
        </p:blipFill>
        <p:spPr>
          <a:xfrm>
            <a:off x="1879560" y="2386080"/>
            <a:ext cx="538308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inding Directio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Global Positioning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way people can find their location on Earth is by using the global positioning system, or G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PS is a satellite navigation system that is based on a global network of 24 satellites that transmit radio signals to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PS receiver held by a person on the ground receives signals from three satellites to calculate the latitude, longitude, and altitude of the receiver on Ea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latitude and longitu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latitude and longitude can be used to locate places on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 magnetic compass can be used to find directions on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atitu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ints at which Earth’s axis of rotation intersects Earth’s surface are used as reference points for defining direction. These points are the geographic North Pole and South P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way between the poles, a circle called the equator divides Earth into the North and Southern Hemisphe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ference grid that is made up of additional circles is used to locate places on Earth‘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atitud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et of circles describes positions north and south of the equator. These circles are known as parallels, and they express latitu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all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circle that runs east and west around Earth and tat is parallel to the equator; a line of 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atitu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gular distance north or south from the equator; expressed in deg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atitud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Earth’s parall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820800" y="2114640"/>
            <a:ext cx="6875280" cy="37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grees of La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tude is measured in degrees, and the equator is 0° latitude. The latitude of both the North Pole and the South Pole is 90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ctual distance, 1° latitude equals about 111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utes and 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degree of latitude consists of 60 equal parts,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u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One minute (symbo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of latitude equals 1.85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urn, each minute is divided into 60 equal parts,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co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symbo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atitud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itu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-west locations are established by using meri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ridia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semicircle that runs north and south around Earth from the geographic North Pole to the geographic South Pole; a line of long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ngitu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gular distance east or west from the prime meridian; expressed in deg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itud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Earth’s meri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2552760" y="2590920"/>
            <a:ext cx="4038480" cy="31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itud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grees of Long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meridian that passes through Greenwich, England is called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prime meridia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 This meridian represents 0° longitud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meridian opposite the prime meridian, halfway around the world, is labeled 180°, and is called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International Date 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tance Between Meri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distance covered by a degree of longitude depends on where the degree is measured. The distance measured by a degree of longitude decreases as you move from the equator toward the pol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09-17T23:31:52Z</dcterms:modified>
  <cp:revision>665</cp:revision>
  <dc:subject/>
  <dc:title>No Slide Title</dc:title>
</cp:coreProperties>
</file>